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9D76E-C2FE-41AA-8CAA-B2A45A61D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FF4B5-C7CE-404E-8BCD-5C4D75925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F73-5669-473C-A2C4-7E1240B1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C02-BF4A-4495-8ACB-81982D1D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31F-7244-4684-99ED-0E74F1BA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B6A-1038-4AFB-8B82-1E4BD33B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36B-96B2-413E-952E-CBCF4049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2ED-82C6-42AF-81EC-8E95698D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492-3A7E-4B7D-9FAA-F52EDDB8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C03-C767-47FD-8271-2E38D051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380-7EDA-4604-9B72-C103A4CB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E03-DC21-4E1B-AD75-B41CD539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C28-5797-4636-AE77-AF5573D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AF8-FB45-4FA8-A8E9-B553B7EF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463CD-26D2-4063-A684-B6B8AD6CE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943600" y="457200"/>
            <a:ext cx="2746440" cy="601992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Data Model (NetCDF- Jav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95880" y="1143000"/>
            <a:ext cx="2449800" cy="198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oint Times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etCDF-CF, SOS, WFS, JDB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CMs to climate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amflow/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095880" y="5246640"/>
            <a:ext cx="2449800" cy="1077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id static (WC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DEM, Soils,   Landc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5880" y="3219480"/>
            <a:ext cx="2449800" cy="1917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Grid Times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penDA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scaled GC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orological Observations and predi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3200400" y="2476440"/>
            <a:ext cx="2057400" cy="2362320"/>
          </a:xfrm>
          <a:prstGeom prst="rect">
            <a:avLst/>
          </a:prstGeom>
          <a:solidFill>
            <a:srgbClr val="ff7f64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0"/>
          <p:cNvCxnSpPr>
            <a:endCxn id="52" idx="3"/>
          </p:cNvCxnSpPr>
          <p:nvPr/>
        </p:nvCxnSpPr>
        <p:spPr>
          <a:xfrm flipH="1" flipV="1">
            <a:off x="5257800" y="3657600"/>
            <a:ext cx="685800" cy="1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Rectangle 24"/>
          <p:cNvSpPr/>
          <p:nvPr/>
        </p:nvSpPr>
        <p:spPr>
          <a:xfrm>
            <a:off x="3352680" y="3238560"/>
            <a:ext cx="1752840" cy="60948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rieve, Sub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5"/>
          <p:cNvSpPr/>
          <p:nvPr/>
        </p:nvSpPr>
        <p:spPr>
          <a:xfrm>
            <a:off x="3352680" y="3924360"/>
            <a:ext cx="1752840" cy="76212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, summa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27" descr=""/>
          <p:cNvPicPr/>
          <p:nvPr/>
        </p:nvPicPr>
        <p:blipFill>
          <a:blip r:embed="rId1"/>
          <a:stretch/>
        </p:blipFill>
        <p:spPr>
          <a:xfrm>
            <a:off x="-189000" y="-92160"/>
            <a:ext cx="3840120" cy="2408400"/>
          </a:xfrm>
          <a:prstGeom prst="rect">
            <a:avLst/>
          </a:prstGeom>
          <a:ln w="0">
            <a:noFill/>
          </a:ln>
        </p:spPr>
      </p:pic>
      <p:cxnSp>
        <p:nvCxnSpPr>
          <p:cNvPr id="57" name="Straight Arrow Connector 36"/>
          <p:cNvCxnSpPr>
            <a:stCxn id="52" idx="1"/>
            <a:endCxn id="58" idx="3"/>
          </p:cNvCxnSpPr>
          <p:nvPr/>
        </p:nvCxnSpPr>
        <p:spPr>
          <a:xfrm flipH="1" flipV="1">
            <a:off x="2438280" y="3052800"/>
            <a:ext cx="762480" cy="605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Folded Corner 39"/>
          <p:cNvSpPr/>
          <p:nvPr/>
        </p:nvSpPr>
        <p:spPr>
          <a:xfrm>
            <a:off x="609480" y="2695680"/>
            <a:ext cx="1828800" cy="714240"/>
          </a:xfrm>
          <a:prstGeom prst="foldedCorner">
            <a:avLst>
              <a:gd name="adj" fmla="val 16666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tted model inp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lded Corner 43"/>
          <p:cNvSpPr/>
          <p:nvPr/>
        </p:nvSpPr>
        <p:spPr>
          <a:xfrm>
            <a:off x="2924280" y="876240"/>
            <a:ext cx="2590560" cy="1067040"/>
          </a:xfrm>
          <a:prstGeom prst="foldedCorner">
            <a:avLst>
              <a:gd name="adj" fmla="val 16666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ing extent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WFS, Shpfile, other serv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47"/>
          <p:cNvCxnSpPr>
            <a:stCxn id="59" idx="2"/>
            <a:endCxn id="52" idx="0"/>
          </p:cNvCxnSpPr>
          <p:nvPr/>
        </p:nvCxnSpPr>
        <p:spPr>
          <a:xfrm>
            <a:off x="4219560" y="1943280"/>
            <a:ext cx="9720" cy="533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14" descr=""/>
          <p:cNvPicPr/>
          <p:nvPr/>
        </p:nvPicPr>
        <p:blipFill>
          <a:blip r:embed="rId2"/>
          <a:stretch/>
        </p:blipFill>
        <p:spPr>
          <a:xfrm>
            <a:off x="655560" y="5508720"/>
            <a:ext cx="1828800" cy="73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3"/>
          <a:stretch/>
        </p:blipFill>
        <p:spPr>
          <a:xfrm>
            <a:off x="3200400" y="5348160"/>
            <a:ext cx="1752480" cy="976320"/>
          </a:xfrm>
          <a:prstGeom prst="rect">
            <a:avLst/>
          </a:prstGeom>
          <a:ln w="0">
            <a:noFill/>
          </a:ln>
        </p:spPr>
      </p:pic>
      <p:sp>
        <p:nvSpPr>
          <p:cNvPr id="63" name="Folded Corner 39"/>
          <p:cNvSpPr/>
          <p:nvPr/>
        </p:nvSpPr>
        <p:spPr>
          <a:xfrm>
            <a:off x="609480" y="3848040"/>
            <a:ext cx="1828800" cy="714600"/>
          </a:xfrm>
          <a:prstGeom prst="foldedCorner">
            <a:avLst>
              <a:gd name="adj" fmla="val 16666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rther Web Proces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36"/>
          <p:cNvCxnSpPr>
            <a:stCxn id="52" idx="1"/>
          </p:cNvCxnSpPr>
          <p:nvPr/>
        </p:nvCxnSpPr>
        <p:spPr>
          <a:xfrm flipH="1">
            <a:off x="2437560" y="3657600"/>
            <a:ext cx="763200" cy="5760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66560" y="1077840"/>
            <a:ext cx="7672680" cy="1341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age data relationships and group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 interdisciplinary groups to share project inputs and outpu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 standards base, flexible design to accommodate any stand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12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7686720" cy="75060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13" descr=""/>
          <p:cNvPicPr/>
          <p:nvPr/>
        </p:nvPicPr>
        <p:blipFill>
          <a:blip r:embed="rId2"/>
          <a:stretch/>
        </p:blipFill>
        <p:spPr>
          <a:xfrm>
            <a:off x="1682640" y="1060560"/>
            <a:ext cx="6540480" cy="530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4"/>
          <p:cNvSpPr/>
          <p:nvPr/>
        </p:nvSpPr>
        <p:spPr>
          <a:xfrm>
            <a:off x="466560" y="2419200"/>
            <a:ext cx="7672680" cy="13399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ometry upload to WFS and/or interactive analysis zone cre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-zone available-attribute-types and group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ource metadata (spatiotemporal availability, data types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Rectangle 15" descr=""/>
          <p:cNvPicPr/>
          <p:nvPr/>
        </p:nvPicPr>
        <p:blipFill>
          <a:blip r:embed="rId3"/>
          <a:stretch/>
        </p:blipFill>
        <p:spPr>
          <a:xfrm>
            <a:off x="1841400" y="2401920"/>
            <a:ext cx="6467400" cy="530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66560" y="3759120"/>
            <a:ext cx="7672680" cy="10494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 series modification and processing too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at and encoding conversion to “model ready format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Rectangle 17" descr=""/>
          <p:cNvPicPr/>
          <p:nvPr/>
        </p:nvPicPr>
        <p:blipFill>
          <a:blip r:embed="rId4"/>
          <a:stretch/>
        </p:blipFill>
        <p:spPr>
          <a:xfrm>
            <a:off x="1841400" y="3743280"/>
            <a:ext cx="6381720" cy="53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5"/>
          <a:stretch/>
        </p:blipFill>
        <p:spPr>
          <a:xfrm>
            <a:off x="2087640" y="5565600"/>
            <a:ext cx="1828800" cy="73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6"/>
          <a:stretch/>
        </p:blipFill>
        <p:spPr>
          <a:xfrm>
            <a:off x="4784760" y="5316480"/>
            <a:ext cx="17524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72960" y="900000"/>
          <a:ext cx="7543800" cy="4592880"/>
        </p:xfrm>
        <a:graphic>
          <a:graphicData uri="http://schemas.openxmlformats.org/drawingml/2006/table">
            <a:tbl>
              <a:tblPr/>
              <a:tblGrid>
                <a:gridCol w="7543800"/>
              </a:tblGrid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iver Forecasting Center's Multisensor Precipitation Estim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rth American Regional Reanalysis 32km Gridded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km Gridded Meteorological Observations from Climate Change Commu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ational Solar Radiation Data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9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ISM Parameter-Elevation Regression on independent Slopes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wnscaled climate models, NCEP models, many real time radar products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ational Land Cover Data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m National Elevation Data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tically Averaged SSURGO on a 90m National Gri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ＭＳ Ｐゴシック"/>
                        </a:rPr>
                        <a:t>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6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AA Great Lakes Coastal Forecasting System and Bathy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itle 1"/>
          <p:cNvSpPr/>
          <p:nvPr/>
        </p:nvSpPr>
        <p:spPr>
          <a:xfrm>
            <a:off x="2362320" y="152280"/>
            <a:ext cx="632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me Datasets of 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651040" y="5791320"/>
            <a:ext cx="1130400" cy="520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5127480" y="557388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4038480" y="6510240"/>
            <a:ext cx="4953240" cy="26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4"/>
          <a:stretch/>
        </p:blipFill>
        <p:spPr>
          <a:xfrm>
            <a:off x="6324480" y="5791320"/>
            <a:ext cx="2362320" cy="495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2498760" y="6411960"/>
            <a:ext cx="139680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6"/>
          <a:stretch/>
        </p:blipFill>
        <p:spPr>
          <a:xfrm>
            <a:off x="4062240" y="55958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Screen shot 2010-11-04 at 7.02.18 AM.png"/>
          <p:cNvPicPr/>
          <p:nvPr/>
        </p:nvPicPr>
        <p:blipFill>
          <a:blip r:embed="rId1"/>
          <a:stretch/>
        </p:blipFill>
        <p:spPr>
          <a:xfrm>
            <a:off x="0" y="0"/>
            <a:ext cx="6238800" cy="475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Screen shot 2010-07-08 at 8.11.31 AM.png"/>
          <p:cNvPicPr/>
          <p:nvPr/>
        </p:nvPicPr>
        <p:blipFill>
          <a:blip r:embed="rId2"/>
          <a:stretch/>
        </p:blipFill>
        <p:spPr>
          <a:xfrm>
            <a:off x="3645000" y="2695680"/>
            <a:ext cx="54990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Screen shot 2010-07-08 at 8.20.00 AM.png"/>
          <p:cNvPicPr/>
          <p:nvPr/>
        </p:nvPicPr>
        <p:blipFill>
          <a:blip r:embed="rId1"/>
          <a:stretch/>
        </p:blipFill>
        <p:spPr>
          <a:xfrm>
            <a:off x="0" y="0"/>
            <a:ext cx="4856040" cy="3732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Screen shot 2010-07-08 at 8.13.40 AM.png"/>
          <p:cNvPicPr/>
          <p:nvPr/>
        </p:nvPicPr>
        <p:blipFill>
          <a:blip r:embed="rId2"/>
          <a:stretch/>
        </p:blipFill>
        <p:spPr>
          <a:xfrm>
            <a:off x="0" y="2884320"/>
            <a:ext cx="4586400" cy="397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Screen shot 2010-07-08 at 8.20.46 AM.png"/>
          <p:cNvPicPr/>
          <p:nvPr/>
        </p:nvPicPr>
        <p:blipFill>
          <a:blip r:embed="rId3"/>
          <a:stretch/>
        </p:blipFill>
        <p:spPr>
          <a:xfrm>
            <a:off x="4467240" y="399960"/>
            <a:ext cx="4676760" cy="36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Screen shot 2010-07-08 at 8.21.14 AM.png"/>
          <p:cNvPicPr/>
          <p:nvPr/>
        </p:nvPicPr>
        <p:blipFill>
          <a:blip r:embed="rId4"/>
          <a:stretch/>
        </p:blipFill>
        <p:spPr>
          <a:xfrm>
            <a:off x="3543480" y="2530440"/>
            <a:ext cx="5600520" cy="432756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9"/>
          <p:cNvCxnSpPr/>
          <p:nvPr/>
        </p:nvCxnSpPr>
        <p:spPr>
          <a:xfrm flipV="1">
            <a:off x="1011600" y="546120"/>
            <a:ext cx="2520" cy="2697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Straight Arrow Connector 10"/>
          <p:cNvCxnSpPr/>
          <p:nvPr/>
        </p:nvCxnSpPr>
        <p:spPr>
          <a:xfrm>
            <a:off x="1369800" y="545760"/>
            <a:ext cx="3097800" cy="267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Straight Arrow Connector 11"/>
          <p:cNvCxnSpPr/>
          <p:nvPr/>
        </p:nvCxnSpPr>
        <p:spPr>
          <a:xfrm>
            <a:off x="4585320" y="946080"/>
            <a:ext cx="1080" cy="1938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ilwaukee_huc_rain.jpg"/>
          <p:cNvPicPr/>
          <p:nvPr/>
        </p:nvPicPr>
        <p:blipFill>
          <a:blip r:embed="rId1"/>
          <a:srcRect l="12987" t="11467" r="21936" b="16722"/>
          <a:stretch/>
        </p:blipFill>
        <p:spPr>
          <a:xfrm>
            <a:off x="4591080" y="0"/>
            <a:ext cx="4552920" cy="6502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69960" y="403200"/>
            <a:ext cx="39211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s to create fig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 Polyg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 Data 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 Time Peri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 Output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 GeoDataPor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umulate GDP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y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212760" y="5802480"/>
            <a:ext cx="1828800" cy="739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2736720" y="5554800"/>
            <a:ext cx="175284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66760" y="28440"/>
            <a:ext cx="8610480" cy="585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066760" y="6118200"/>
            <a:ext cx="1828800" cy="73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5397480" y="5883120"/>
            <a:ext cx="17524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6:03:39Z</dcterms:created>
  <dc:creator>David Blodgett</dc:creator>
  <dc:description/>
  <dc:language>en-US</dc:language>
  <cp:lastModifiedBy>Lewis McCulloch</cp:lastModifiedBy>
  <dcterms:modified xsi:type="dcterms:W3CDTF">2010-11-30T19:44:14Z</dcterms:modified>
  <cp:revision>6</cp:revision>
  <dc:subject/>
  <dc:title>Slide 1</dc:title>
</cp:coreProperties>
</file>